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B6A7-F346-48F5-9210-7176DEC3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444-A7FE-4030-9348-4EB3B582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7E5-6331-4A90-A806-1CF3CB22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F0E-39B0-4AB2-B2EE-E0EA7B9A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BEF-FAD4-48BB-B76B-14507865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AA2-C7C6-4C65-9616-1DFF46EE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CDD-7A0C-4D92-AD75-F0CE8A92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65-988C-48F1-B54A-DBAFFAE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6CD-EE3C-40CB-965D-23BF886F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4F-4370-4E2A-94EF-51010E59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67C-6724-4468-B5D4-AFCE3982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5FF-839E-49DD-AC8B-B317BB2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1CC-8868-40B5-AC55-07D52165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1C8-824E-4BE0-8D78-DDF95E3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CF1-DABD-4C42-8DAB-846B22A1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2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7.pn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8.png"/><Relationship Id="rId26" Type="http://schemas.openxmlformats.org/officeDocument/2006/relationships/image" Target="../media/image2.jpeg"/><Relationship Id="rId27" Type="http://schemas.openxmlformats.org/officeDocument/2006/relationships/image" Target="../media/image9.png"/><Relationship Id="rId28" Type="http://schemas.openxmlformats.org/officeDocument/2006/relationships/image" Target="../media/image2.jpeg"/><Relationship Id="rId29" Type="http://schemas.openxmlformats.org/officeDocument/2006/relationships/image" Target="../media/image10.png"/><Relationship Id="rId30" Type="http://schemas.openxmlformats.org/officeDocument/2006/relationships/image" Target="../media/image2.jpeg"/><Relationship Id="rId31" Type="http://schemas.openxmlformats.org/officeDocument/2006/relationships/image" Target="../media/image11.pn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12.jpeg"/><Relationship Id="rId35" Type="http://schemas.openxmlformats.org/officeDocument/2006/relationships/image" Target="../media/image13.jpeg"/><Relationship Id="rId36" Type="http://schemas.openxmlformats.org/officeDocument/2006/relationships/image" Target="../media/image14.jpeg"/><Relationship Id="rId37" Type="http://schemas.openxmlformats.org/officeDocument/2006/relationships/image" Target="../media/image15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8.jpeg"/><Relationship Id="rId41" Type="http://schemas.openxmlformats.org/officeDocument/2006/relationships/image" Target="../media/image19.jpeg"/><Relationship Id="rId42" Type="http://schemas.openxmlformats.org/officeDocument/2006/relationships/image" Target="../media/image20.jpeg"/><Relationship Id="rId43" Type="http://schemas.openxmlformats.org/officeDocument/2006/relationships/image" Target="../media/image21.jpeg"/><Relationship Id="rId44" Type="http://schemas.openxmlformats.org/officeDocument/2006/relationships/image" Target="../media/image22.jpeg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752480" y="1066680"/>
            <a:ext cx="6019920" cy="7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d0d0d"/>
                </a:solidFill>
                <a:uFillTx/>
                <a:latin typeface="comic"/>
              </a:rPr>
              <a:t>Cara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5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838440" cy="38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9144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0" y="0"/>
            <a:ext cx="1828800" cy="380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Elephant"/>
              </a:rPr>
              <a:t>Angie Yous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030a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1828800" y="1295280"/>
            <a:ext cx="838080" cy="246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114800" y="4979880"/>
            <a:ext cx="4608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057400" y="1600200"/>
            <a:ext cx="4952880" cy="274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Book Antiqua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172200" y="51055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0" y="3048120"/>
            <a:ext cx="1752480" cy="231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5257800"/>
            <a:ext cx="1752480" cy="231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7"/>
          <p:cNvSpPr/>
          <p:nvPr/>
        </p:nvSpPr>
        <p:spPr>
          <a:xfrm>
            <a:off x="0" y="3352680"/>
            <a:ext cx="1752480" cy="187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Book Antiqua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8" descr="Photo on 2011-10-21 at 13.53 #2.jpg"/>
          <p:cNvPicPr/>
          <p:nvPr/>
        </p:nvPicPr>
        <p:blipFill>
          <a:blip r:embed="rId17"/>
          <a:stretch/>
        </p:blipFill>
        <p:spPr>
          <a:xfrm>
            <a:off x="1925640" y="2073240"/>
            <a:ext cx="641520" cy="160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hoto on 2011-10-21 at 13.39 #2.jpg"/>
          <p:cNvPicPr/>
          <p:nvPr/>
        </p:nvPicPr>
        <p:blipFill>
          <a:blip r:embed="rId18"/>
          <a:stretch/>
        </p:blipFill>
        <p:spPr>
          <a:xfrm>
            <a:off x="1957320" y="3730680"/>
            <a:ext cx="590760" cy="109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4" descr="Photo on 2011-10-21 at 13.53 #2.jpg"/>
          <p:cNvPicPr/>
          <p:nvPr/>
        </p:nvPicPr>
        <p:blipFill>
          <a:blip r:embed="rId19"/>
          <a:stretch/>
        </p:blipFill>
        <p:spPr>
          <a:xfrm>
            <a:off x="2097000" y="4352760"/>
            <a:ext cx="426960" cy="1047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7"/>
          <p:cNvSpPr/>
          <p:nvPr/>
        </p:nvSpPr>
        <p:spPr>
          <a:xfrm>
            <a:off x="2666880" y="4343400"/>
            <a:ext cx="6324840" cy="380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!De nada, mi alta y divertida amiga. Podemos cantar y bailar y correr y escribir y comer el helado. Tienes para traer su hermana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2743200" y="3733920"/>
            <a:ext cx="6248520" cy="533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Hag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Muy bien gracias. Me llama Hagar. Yo vivo en Nueva York. Tengo quince años. Si tengo una herm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, quiero y puedo ir a tú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8" descr="Photo on 2011-10-21 at 13.46.jpg"/>
          <p:cNvPicPr/>
          <p:nvPr/>
        </p:nvPicPr>
        <p:blipFill>
          <a:blip r:embed="rId22"/>
          <a:stretch/>
        </p:blipFill>
        <p:spPr>
          <a:xfrm>
            <a:off x="1884240" y="2968560"/>
            <a:ext cx="657360" cy="1255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2514600" y="2133720"/>
            <a:ext cx="6400800" cy="761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Hola….¿Cómo están amigas?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¿Dónde vives? ¿Cuántos años tienes? ¿Tienes hermanos? ¿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Sí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o no? ¿ Cuántos? Y ¿ 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2590920" y="4952880"/>
            <a:ext cx="6400800" cy="3812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H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Photo on 2011-10-21 at 13.53 #2.jpg"/>
          <p:cNvPicPr/>
          <p:nvPr/>
        </p:nvPicPr>
        <p:blipFill>
          <a:blip r:embed="rId25"/>
          <a:stretch/>
        </p:blipFill>
        <p:spPr>
          <a:xfrm>
            <a:off x="1951200" y="6181560"/>
            <a:ext cx="487080" cy="1206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7"/>
          <p:cNvSpPr/>
          <p:nvPr/>
        </p:nvSpPr>
        <p:spPr>
          <a:xfrm>
            <a:off x="2590920" y="5486400"/>
            <a:ext cx="6400800" cy="533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¿Son nuestros nuevos compañeros de clase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2" descr="Photo on 2011-10-21 at 13.46.jpg"/>
          <p:cNvPicPr/>
          <p:nvPr/>
        </p:nvPicPr>
        <p:blipFill>
          <a:blip r:embed="rId27"/>
          <a:stretch/>
        </p:blipFill>
        <p:spPr>
          <a:xfrm>
            <a:off x="1957320" y="5479920"/>
            <a:ext cx="504720" cy="951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7"/>
          <p:cNvSpPr/>
          <p:nvPr/>
        </p:nvSpPr>
        <p:spPr>
          <a:xfrm>
            <a:off x="2666880" y="6172200"/>
            <a:ext cx="6324840" cy="457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í </a:t>
            </a:r>
            <a:r>
              <a:rPr b="1" lang="es-ES" sz="900" spc="-1" strike="noStrike">
                <a:solidFill>
                  <a:srgbClr val="343434"/>
                </a:solidFill>
                <a:latin typeface="Book Antiqua"/>
              </a:rPr>
              <a:t>sus nuestros nuevos compañeros de cla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6"/>
          <p:cNvSpPr/>
          <p:nvPr/>
        </p:nvSpPr>
        <p:spPr>
          <a:xfrm>
            <a:off x="3276720" y="16765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¿Qué tal mi amigas?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Book Antiqua"/>
              </a:rPr>
              <a:t> 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5" descr="Photo on 2011-10-21 at 13.39 #2.jpg"/>
          <p:cNvPicPr/>
          <p:nvPr/>
        </p:nvPicPr>
        <p:blipFill>
          <a:blip r:embed="rId29"/>
          <a:stretch/>
        </p:blipFill>
        <p:spPr>
          <a:xfrm>
            <a:off x="1957320" y="495000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2590920" y="2971800"/>
            <a:ext cx="6553080" cy="685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Muy bien! Gracias. Me llama Michelle. Yo vivo en Nueva York. Tengo quince años. No tengo hermanos. Si, quiero y pued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ir a tú ca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45 minute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391520" y="7475400"/>
            <a:ext cx="20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ie Yousr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Dónde viv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Cuántos años tien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Tienes hermanos? ¿Sí o no? ¿Cuánto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Cómo e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8077320" y="7704000"/>
            <a:ext cx="277560" cy="25830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án amigas?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¿Dónde vives? ¿Cuántos años tienes? ¿Tienes hermanos? ¿Sï o no? ¿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venir a mi casa a las 7 de trei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4876920" y="7742160"/>
            <a:ext cx="372960" cy="147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! Gracias. Me llama Michel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7"/>
          <p:cNvSpPr/>
          <p:nvPr/>
        </p:nvSpPr>
        <p:spPr>
          <a:xfrm>
            <a:off x="4876920" y="2895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74" descr=""/>
          <p:cNvPicPr/>
          <p:nvPr/>
        </p:nvPicPr>
        <p:blipFill>
          <a:blip r:embed="rId31"/>
          <a:stretch/>
        </p:blipFill>
        <p:spPr>
          <a:xfrm>
            <a:off x="73080" y="79200"/>
            <a:ext cx="6108480" cy="1159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2666880" y="1295280"/>
            <a:ext cx="914400" cy="2462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3581280" y="1295280"/>
            <a:ext cx="838440" cy="246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0" descr="27913_495731607116178_151797171_n.jpg"/>
          <p:cNvPicPr/>
          <p:nvPr/>
        </p:nvPicPr>
        <p:blipFill>
          <a:blip r:embed="rId3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1" descr="ishra.jpg"/>
          <p:cNvPicPr/>
          <p:nvPr/>
        </p:nvPicPr>
        <p:blipFill>
          <a:blip r:embed="rId35"/>
          <a:stretch/>
        </p:blipFill>
        <p:spPr>
          <a:xfrm>
            <a:off x="609480" y="5645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2" descr="michelle.jpg"/>
          <p:cNvPicPr/>
          <p:nvPr/>
        </p:nvPicPr>
        <p:blipFill>
          <a:blip r:embed="rId36"/>
          <a:stretch/>
        </p:blipFill>
        <p:spPr>
          <a:xfrm>
            <a:off x="114300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3" descr="211710_100001528534843_984851639_q.jpg"/>
          <p:cNvPicPr/>
          <p:nvPr/>
        </p:nvPicPr>
        <p:blipFill>
          <a:blip r:embed="rId37"/>
          <a:stretch/>
        </p:blipFill>
        <p:spPr>
          <a:xfrm>
            <a:off x="7632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5" descr="187193_100003303262761_1960013596_q.jpg"/>
          <p:cNvPicPr/>
          <p:nvPr/>
        </p:nvPicPr>
        <p:blipFill>
          <a:blip r:embed="rId38"/>
          <a:stretch/>
        </p:blipFill>
        <p:spPr>
          <a:xfrm>
            <a:off x="60948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IMG_1031.jpg"/>
          <p:cNvPicPr/>
          <p:nvPr/>
        </p:nvPicPr>
        <p:blipFill>
          <a:blip r:embed="rId39"/>
          <a:stretch/>
        </p:blipFill>
        <p:spPr>
          <a:xfrm>
            <a:off x="1143000" y="6172200"/>
            <a:ext cx="482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7" descr="photo.JPG"/>
          <p:cNvPicPr/>
          <p:nvPr/>
        </p:nvPicPr>
        <p:blipFill>
          <a:blip r:embed="rId40"/>
          <a:stretch/>
        </p:blipFill>
        <p:spPr>
          <a:xfrm>
            <a:off x="5181480" y="152280"/>
            <a:ext cx="112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8" descr="photo (3).JPG"/>
          <p:cNvPicPr/>
          <p:nvPr/>
        </p:nvPicPr>
        <p:blipFill>
          <a:blip r:embed="rId41"/>
          <a:stretch/>
        </p:blipFill>
        <p:spPr>
          <a:xfrm>
            <a:off x="0" y="1552680"/>
            <a:ext cx="83808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0" descr="photo (2).JPG"/>
          <p:cNvPicPr/>
          <p:nvPr/>
        </p:nvPicPr>
        <p:blipFill>
          <a:blip r:embed="rId42"/>
          <a:stretch/>
        </p:blipFill>
        <p:spPr>
          <a:xfrm>
            <a:off x="838080" y="1523880"/>
            <a:ext cx="885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1" descr="photo (6).JPG"/>
          <p:cNvPicPr/>
          <p:nvPr/>
        </p:nvPicPr>
        <p:blipFill>
          <a:blip r:embed="rId43"/>
          <a:stretch/>
        </p:blipFill>
        <p:spPr>
          <a:xfrm>
            <a:off x="0" y="380880"/>
            <a:ext cx="685800" cy="8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2" descr="photo (1).JPG"/>
          <p:cNvPicPr/>
          <p:nvPr/>
        </p:nvPicPr>
        <p:blipFill>
          <a:blip r:embed="rId44"/>
          <a:stretch/>
        </p:blipFill>
        <p:spPr>
          <a:xfrm>
            <a:off x="685800" y="380880"/>
            <a:ext cx="77148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0" y="1295280"/>
            <a:ext cx="1752480" cy="231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fotos de Angie Yous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3" descr="photo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 </cp:lastModifiedBy>
  <cp:lastPrinted>2012-12-06T18:31:48Z</cp:lastPrinted>
  <dcterms:modified xsi:type="dcterms:W3CDTF">2012-12-07T15:31:41Z</dcterms:modified>
  <cp:revision>135</cp:revision>
  <dc:subject/>
  <dc:title>Profile</dc:title>
</cp:coreProperties>
</file>